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9682-9586-4E79-BDD7-1C6B269F3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49E0-0DEA-4DF1-A643-00629A5F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E7FC-3039-447A-996B-F4D9951F3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3272-BC07-4710-93D2-AE3E9EA0F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F0C8-962B-42CB-B208-1DA8BC66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2006-96EA-4DFD-8E77-EEADD3DE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4AD0-10AA-4E94-8E5A-B6D67F8B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2DA7-3D97-4BE6-B182-2489B770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B4C2-9DF6-44D9-B4BB-51071DEB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37CC-D2F6-448A-9F76-E2B8BF4B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6F53-7EE4-400D-9315-BDADD6D4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3924-4E07-4A6D-9244-5F6F4B15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C2C3-22BC-45DD-B1A5-090074D263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93 Príď, Svätý Boží Duch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ď, Svätý Boží Duch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ď a mocne vládni v n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d vplyvom tvojí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e ž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oj tichý počuť hl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ď, oheň z neba, rozohr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m srdcia studené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prúdom moci nebesk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ú znovuzrodené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ď, vánok tich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ôsob v n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č mier do sveta ni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môž nám šíriť, kým je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dostnú spásy zvesť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ď, vlaha z neba, Boží dar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krop úhor navôko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k balzam lieč a popraj zdar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tíš hlad i srdca bô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ď, múdry Radca, Tešit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s nauč ako ž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víťazstvu cieľu určuj smer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ď, Duchu svätý, príď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5T10:09:13Z</dcterms:modified>
  <cp:revision>19</cp:revision>
  <dc:subject/>
  <dc:title>Je veľký náš Pán, on slávy je Kráľ Nech do všetkých strán  spev vrúcnych znie chvál.</dc:title>
</cp:coreProperties>
</file>